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263-ED9B-4DEF-9796-D4E7AE78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243-8CA9-47C7-B0E3-0DE3F92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763-AE61-4546-9939-261E2ECD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154-D778-41E9-830E-F2CF492F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9BEC-6B0C-4BB5-A1A9-97EA126D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EC17-3265-4D1F-BE24-14BD31DA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D1AA-7833-4AC8-8868-8F25B57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CC7-2858-4858-86C6-8C3DB8E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1A6-3813-462A-AC25-7AE125D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512E-25A7-45DA-BA95-74F90EF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A858-9762-4CAE-BD3C-95A9941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394-7EE8-4F76-AA4B-E4D3BF9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DABF-6918-407C-AE2A-392C17D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640-0803-4062-8AC8-86BA0F6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05F5-3923-4506-8B43-2CE953C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1E8-4110-4EF8-824F-77ABF12E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E57E-A76E-4740-BE7C-CCFDE62D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56D-E037-4317-8A06-C86E57DE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596-19AA-440F-A77D-7E77B4F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DC9-D963-473B-A9EF-E12D54C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6B9-DC03-4D63-A87B-6817274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A26-170B-43AF-95E7-34DCD11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F1-7C3B-4B85-84A2-EABB2AF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702-7590-4312-9CFB-78818E9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F733-7156-4072-85E5-A9D4BEB036E3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3197-A14F-433A-B241-3B73E316E1E1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  <a:ea typeface="SimSun"/>
              </a:rPr>
              <a:t>Diseño e implementación de una aplicación Web J2EE con arquitectura MVC. Caso de estudio: sitio Web de apuestas deportiv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:   Antonio Fernández Zarag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:   Manuel Álvarez Dí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nagrama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41912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19440" y="5228640"/>
            <a:ext cx="228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badi MT Condensed Extra Bold"/>
                <a:ea typeface="SimSun"/>
              </a:rPr>
              <a:t>UNIVERSIDADE DA CORU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SimSun"/>
              </a:rPr>
              <a:t>FACULTADE DE 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1520" y="2562120"/>
            <a:ext cx="6600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quitectura general siguiendo el patrón Modelo Vist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1 principal. Implementación de las capas modelo, vista y contr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2. Facilita la implementación de las capas de subsistema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14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3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achadas: Patrónes Session Facade y Bussiness Deleg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de dominio: Patrones DAO y 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4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5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ón Front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ruts nos proporciona una implementación del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Servlet Front Controll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6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35200" y="2343240"/>
            <a:ext cx="569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áginas limpias, ausencia código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XHTML y librerías standard JST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brerías d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les de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ilos C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446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erramienta J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uebas de unidad de las fachadas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aser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util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men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os desarrol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creado una  completa aplicación Web J2EE con arquitectura MVC tal y como se había pro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aplicación permite realizar todas las funcionalidades planteadas como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n cumplido los objetivos particulares de aprendizaje de las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os desarroll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de transacciones co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guridad en transmisión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interfaz grá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s en la variedad de apuestas y deportes ofrecidos a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Cuotas de apuestas variabl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mostr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El negocio de las apuestas ha encontrado en Internet un socio ideal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Las casas de apuestas en Internet facilitan a sus usuarios un sistema sencillo y divertido para apostar en los eventos deportivos de mayor trascendenci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men y 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licación destinada a la realización de a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realizar apuestas simples y combin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a y gestión de información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consulta de historial de apuestas y movimientos financi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cionar información depor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gestión por parte de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nologías utiliza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especificaciones J2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mework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torno de desarrollo: Eclipse y Mave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realizado en iter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iteración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análisis, diseño, implementación, prue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Metodología similar a Proceso U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e uso de la apl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12720" y="1719360"/>
            <a:ext cx="6116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3840" y="2028960"/>
            <a:ext cx="7096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9:36:44Z</dcterms:created>
  <dc:creator>AFZ</dc:creator>
  <dc:description/>
  <dc:language>en-US</dc:language>
  <cp:lastModifiedBy>AFZ</cp:lastModifiedBy>
  <dcterms:modified xsi:type="dcterms:W3CDTF">2007-07-13T08:41:58Z</dcterms:modified>
  <cp:revision>27</cp:revision>
  <dc:subject/>
  <dc:title>Diseño e implementación de una aplicación Web J2EE con arquitectura MVC. Caso de estudio: sitio Web de apuestas deportivas</dc:title>
</cp:coreProperties>
</file>