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87A-C6E5-43C1-95DE-08B1EF6F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97C-36F9-4FFA-A26D-6D60662F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E89-442B-48A2-848E-3A07138D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EF0-6194-4F5E-8086-C85A791E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2BFC-EAD7-4270-B350-B5B7FC50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053D-6683-4D39-A36F-CA4750C3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C33A-FF88-48AD-9822-6C1D4F03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40AD-A426-4916-B12B-7EE6171D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B822-D079-46BD-ABCE-8F0BAE4D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F998-59BE-4D9E-A7FE-DB45FC98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8137-85EB-4626-BBCB-6E0A833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115-6E74-4D41-AB06-9CF6DDE0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24CF-D97F-4190-81C6-BDCA5BE6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49BA-FCED-4787-A190-5AB3D295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ED50-3C9A-4195-9D98-12E7A3B4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0101-B393-48F1-960D-A269F38A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4E1C-1CBF-4BE4-9CFC-7CB508BC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550-FE4C-48C9-BB64-CF068163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73F-A96C-4355-B3F3-CE06192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022-B504-4BB0-BBA9-155706E4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6B2-8E4B-4975-8ED3-1BC33FE9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415-B312-46C1-9FCF-B417418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F2D-D26C-4DEA-8615-CDEC9F1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A1D-7438-44BD-A46C-CB4660E9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9C72-A078-4E52-99A8-4E53E7BB0D8E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7B69-5675-4F5E-A892-E509CF9F9240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0066"/>
                </a:solidFill>
                <a:latin typeface="Arial"/>
                <a:ea typeface="SimSun"/>
              </a:rPr>
              <a:t>Diseño e implementación de una aplicación Web J2EE con arquitectura MVC. Caso de estudio: sitio Web de apuestas deportiv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:   Antonio Fernández Zarag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:   Manuel Álvarez Dí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6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nagrama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1419120" cy="905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19440" y="5228640"/>
            <a:ext cx="228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badi MT Condensed Extra Bold"/>
                <a:ea typeface="SimSun"/>
              </a:rPr>
              <a:t>UNIVERSIDADE DA CORU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SimSun"/>
              </a:rPr>
              <a:t>FACULTADE DE INFOR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71520" y="2562120"/>
            <a:ext cx="6600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quitectura general siguiendo el patrón Modelo Vista Control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1 principal. Implementación de las capas modelo, vista y controlad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2. Facilita la implementación de las capas de subsistema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14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3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achadas: Patrónes Session Facade y Bussiness Deleg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os de dominio: Patrones DAO y 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4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229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5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trón Front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truts nos proporciona una implementación del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Servlet Front Controll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6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35200" y="2343240"/>
            <a:ext cx="5695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áginas limpias, ausencia código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XHTML y librerías standard JST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brerías d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les de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ilos C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5446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ueb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erramienta J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uebas de unidad de las fachadas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aser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Índ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nologías utiliz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men y 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os desarrol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 creado una  completa aplicación Web J2EE con arquitectura MVC tal y como se había propue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aplicación permite realizar todas las funcionalidades planteadas como requisi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n cumplido los objetivos particulares de aprendizaje de las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os desarroll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de transacciones co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guridad en transmisión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interfaz grá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s en la variedad de apuestas y deportes ofrecidos a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Cuotas de apuestas variable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mostr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gunt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El negocio de las apuestas ha encontrado en Internet un socio ideal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Las casas de apuestas en Internet facilitan a sus usuarios un sistema sencillo y divertido para apostar en los eventos deportivos de mayor trascendenci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men y 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licación destinada a la realización de a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ite realizar apuestas simples y combina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lta y gestión de información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ilidad de consulta de historial de apuestas y movimientos financi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rcionar información depor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a gestión por parte de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nologías utilizad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especificaciones J2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amework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torno de desarrollo: Eclipse y Maven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odolog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realizado en iter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da iteración: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análisis, diseño, implementación, prue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Metodología similar a Proceso Unifi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095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os de uso de la apli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12720" y="1719360"/>
            <a:ext cx="61167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23840" y="2028960"/>
            <a:ext cx="70963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9:36:44Z</dcterms:created>
  <dc:creator>AFZ</dc:creator>
  <dc:description/>
  <dc:language>en-US</dc:language>
  <cp:lastModifiedBy>AFZ</cp:lastModifiedBy>
  <dcterms:modified xsi:type="dcterms:W3CDTF">2007-07-13T08:41:58Z</dcterms:modified>
  <cp:revision>27</cp:revision>
  <dc:subject/>
  <dc:title>Diseño e implementación de una aplicación Web J2EE con arquitectura MVC. Caso de estudio: sitio Web de apuestas deportivas</dc:title>
</cp:coreProperties>
</file>