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5FB-D686-4EDE-96F4-56EF4BDF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1EA-B838-4470-8F1D-2FD883F4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E4E-5C09-4BFA-82F7-4DEDCC5B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F1F-DD6C-4AAE-A03B-D27218B5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39A8-5F39-4D8D-95FC-3B63077D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1003-CDFA-469A-9DE2-EF4C25B8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3E96-9C28-4666-B57F-0CE74CB6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D46E-A15D-4C50-9671-DFCD670D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D4C6-E85A-4FA1-AD1F-4787472C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6829-153D-4434-81B9-6C974A79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5442-F8F2-4E50-AA09-C620029C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8A4-72FB-44B2-A0BC-81C9ED5B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163F-0049-4150-9040-A953027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5EEA-312B-496F-98E5-D98B28D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9471-3BD1-49F0-BF4C-F1573903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EC0F-1AF7-4FF3-A56E-3B38AAE0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CD8B-3E75-4B2F-9261-E01FAADB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EB3-24AC-4711-99C4-BB957EA1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0FC-4C5C-4FC7-80CA-47F6D1D9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7C7-113A-4F20-A8C4-E40A933F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04E-10F3-4444-BF8B-7CE362CF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A91-E66F-445A-9E79-56AD05CC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1AA-5A09-4BE2-B9D6-E6514914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4F0-4554-4A41-A4DC-C2EB0CFA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08A8-7462-48D9-9EF5-5F09D6D5B1DD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6618-C31E-4B03-AE37-5AC6B5B81E51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0066"/>
                </a:solidFill>
                <a:latin typeface="Arial"/>
                <a:ea typeface="SimSun"/>
              </a:rPr>
              <a:t>Diseño e implementación de una aplicación Web J2EE con arquitectura MVC. Caso de estudio: sitio Web de apuestas deportiva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:   Antonio Fernández Zarag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:   Manuel Álvarez Dí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6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nagrama" descr=""/>
          <p:cNvPicPr/>
          <p:nvPr/>
        </p:nvPicPr>
        <p:blipFill>
          <a:blip r:embed="rId1"/>
          <a:stretch/>
        </p:blipFill>
        <p:spPr>
          <a:xfrm>
            <a:off x="3348000" y="4149720"/>
            <a:ext cx="1419120" cy="905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19440" y="5228640"/>
            <a:ext cx="2285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badi MT Condensed Extra Bold"/>
                <a:ea typeface="SimSun"/>
              </a:rPr>
              <a:t>UNIVERSIDADE DA CORUÑ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SimSun"/>
              </a:rPr>
              <a:t>FACULTADE DE INFOR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71520" y="2562120"/>
            <a:ext cx="6600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quitectura general siguiendo el patrón Modelo Vista Control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1 principal. Implementación de las capas modelo, vista y controlad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istema 2. Facilita la implementación de las capas de subsistema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614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3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achadas: Patrónes Session Facade y Bussiness Deleg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os de dominio: Patrones DAO y 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4) Capa Mode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229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5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trón Front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truts nos proporciona una implementación del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Servlet Front Controll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6) Capa Control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35200" y="2343240"/>
            <a:ext cx="5695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áginas limpias, ausencia código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XHTML y librerías standard JST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brerías d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les de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ilos C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eño (7) Capa Vist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5446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ueb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erramienta J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uebas de unidad de las fachadas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aser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Índ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nologías utiliz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men y 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os desarrol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 creado una  completa aplicación Web J2EE con arquitectura MVC tal y como se había propues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aplicación permite realizar todas las funcionalidades planteadas como requisi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han cumplido los objetivos particulares de aprendizaje de las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turos desarroll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de transacciones co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guridad en transmisión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 interfaz grá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joras en la variedad de apuestas y deportes ofrecidos a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Cuotas de apuestas variable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mostr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unas funcionalidades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gunt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El negocio de las apuestas ha encontrado en Internet un socio ideal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Las casas de apuestas en Internet facilitan a sus usuarios un sistema sencillo y divertido para apostar en los eventos deportivos de mayor trascendenci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umen y 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licación destinada a la realización de a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ite realizar apuestas simples y combina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ulta y gestión de información del usua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bilidad de consulta de historial de apuestas y movimientos financie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rcionar información depor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a gestión por parte de administr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nologías utilizad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junto de especificaciones J2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amework Apache Str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torno de desarrollo: Eclipse y Maven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todolog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 realizado en iter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da iteración: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análisis, diseño, implementación, prueb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SimSun"/>
              </a:rPr>
              <a:t>Metodología similar a Proceso Unifi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3095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os de uso de la apli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12720" y="1719360"/>
            <a:ext cx="61167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23840" y="2028960"/>
            <a:ext cx="70963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9:36:44Z</dcterms:created>
  <dc:creator>AFZ</dc:creator>
  <dc:description/>
  <dc:language>en-US</dc:language>
  <cp:lastModifiedBy>AFZ</cp:lastModifiedBy>
  <dcterms:modified xsi:type="dcterms:W3CDTF">2007-07-13T08:41:58Z</dcterms:modified>
  <cp:revision>27</cp:revision>
  <dc:subject/>
  <dc:title>Diseño e implementación de una aplicación Web J2EE con arquitectura MVC. Caso de estudio: sitio Web de apuestas deportivas</dc:title>
</cp:coreProperties>
</file>